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05AD-1862-44AA-9995-745B0B01F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5EFA-3D79-44BF-B1A8-684B966EC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F41D-F0B5-4E02-8F3D-2465FBC89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B63E-D6B4-4AA3-BD61-868B0B697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FF26-4154-43F3-B36F-37B35CA87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F4C3-8857-4753-9311-EE204B01E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70B7-1ECC-4E32-8E64-B75249D9E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97E3-D2CE-4952-9951-7F510CB4D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3307-707C-4866-AD05-A79F9D8BA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6716-2501-4A90-81F5-C09C7865E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A5EC-CA09-42E2-8438-A78FE55B3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C56C-C5AE-4E89-8C15-4BDFB81B1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58ABE-CB9F-4422-9492-8572D44B08F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58920" y="620640"/>
            <a:ext cx="640080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Arial"/>
              </a:rPr>
              <a:t>Сан  т</a:t>
            </a:r>
            <a:r>
              <a:rPr b="0" lang="tt-RU" sz="6600" spc="-1" strike="noStrike">
                <a:solidFill>
                  <a:srgbClr val="ffffff"/>
                </a:solidFill>
                <a:latin typeface="Arial"/>
              </a:rPr>
              <a:t>өркемчәләре.Төп сан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800" spc="-1" strike="noStrike">
                <a:solidFill>
                  <a:srgbClr val="ffffff"/>
                </a:solidFill>
                <a:latin typeface="Arial"/>
              </a:rPr>
              <a:t>Бердәмлектә - көч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800" spc="-1" strike="noStrike">
                <a:solidFill>
                  <a:srgbClr val="ffffff"/>
                </a:solidFill>
                <a:latin typeface="Arial"/>
              </a:rPr>
              <a:t>Авызың әйткәнне-колагың ишетсен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800" spc="-1" strike="noStrike">
                <a:solidFill>
                  <a:srgbClr val="ffffff"/>
                </a:solidFill>
                <a:latin typeface="Arial"/>
              </a:rPr>
              <a:t>Хикмәт - күңел  күзендә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СА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Arial"/>
              </a:rPr>
              <a:t>Предметның санын, исәбен белдерә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Arial"/>
              </a:rPr>
              <a:t>Ничә?Күпме? Никадәр?һ.б.сорауларына җавап булып килә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Arial"/>
              </a:rPr>
              <a:t>Сан ачыклаган исем  саналмыш дип атал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Arial"/>
              </a:rPr>
              <a:t>Ясалышы ягыннан тамыр, кушма, парлы,тезмә саннар бул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Arial"/>
              </a:rPr>
              <a:t>Саннар гарәп һәм рим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цифрлары бел</a:t>
            </a:r>
            <a:r>
              <a:rPr b="0" lang="tt-RU" sz="2000" spc="-1" strike="noStrike">
                <a:solidFill>
                  <a:srgbClr val="ffffff"/>
                </a:solidFill>
                <a:latin typeface="Arial"/>
              </a:rPr>
              <a:t>ән белдерелә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Arial"/>
              </a:rPr>
              <a:t>Сан төркемчәләре:мик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ъдар,тәртип,бүлем, чама, җыю саннар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3995640" y="836640"/>
            <a:ext cx="0" cy="504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>
            <a:off x="4067280" y="1844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>
            <a:off x="4140360" y="270828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Line 13"/>
          <p:cNvSpPr/>
          <p:nvPr/>
        </p:nvSpPr>
        <p:spPr>
          <a:xfrm>
            <a:off x="4140360" y="335772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Line 14"/>
          <p:cNvSpPr/>
          <p:nvPr/>
        </p:nvSpPr>
        <p:spPr>
          <a:xfrm>
            <a:off x="4211640" y="407664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Line 15"/>
          <p:cNvSpPr/>
          <p:nvPr/>
        </p:nvSpPr>
        <p:spPr>
          <a:xfrm>
            <a:off x="4284720" y="4797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Line 17"/>
          <p:cNvSpPr/>
          <p:nvPr/>
        </p:nvSpPr>
        <p:spPr>
          <a:xfrm>
            <a:off x="4356000" y="558972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6000" spc="-1" strike="noStrike">
                <a:solidFill>
                  <a:srgbClr val="ffffff"/>
                </a:solidFill>
                <a:latin typeface="Arial"/>
              </a:rPr>
              <a:t>Сүзлек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кыңгыр эш- ярамаган, ялган эш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әрҗә-кәрзин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ачы торма- яшелчә (редька)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мәкаль-пословица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әйтем-поговорка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сынамыш-приме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200" spc="-1" strike="noStrike">
                <a:solidFill>
                  <a:srgbClr val="ffffff"/>
                </a:solidFill>
                <a:latin typeface="Arial"/>
              </a:rPr>
              <a:t>Халык авыз иҗаты(фольклор)- </a:t>
            </a: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аерым кешеләр тарафыннан иҗат ителеп,телдән-телгә күчеп йөргән әсәрләр җыелмас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56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Кыңгыр эш кырык елдан соң да беленә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Ике уйла , бер сөйлә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(Татар халык мәкал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ьл</a:t>
            </a: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әр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Белемле кеше дүрт күзле бул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(Гагауз халык мәкал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Берәү- әрҗә турында, берәү- кәҗә турын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(Белорус халык мәкал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Унбишенче феврал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ь</a:t>
            </a: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дә көн җылы булса,яз яхшы бул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</a:t>
            </a: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(Халык сынамышы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Бер имәндә өч ботак,ботак саен өчәр алма.Барысы ничә алм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(Сорау- табышмак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Дүртләп туган бер түбә астында яшиләр.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</a:t>
            </a:r>
            <a:r>
              <a:rPr b="0" lang="tt-RU" sz="2400" spc="-1" strike="noStrike">
                <a:solidFill>
                  <a:srgbClr val="ffffff"/>
                </a:solidFill>
                <a:latin typeface="Arial"/>
              </a:rPr>
              <a:t>(Табышмак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Сан төркемчәләр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Мик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ъдар саны(ничә?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әртип саны(ничәнче?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Бүлем саны(ничәшәр?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Чама саны(ничәләп?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tt-RU" sz="2800" spc="-1" strike="noStrike">
                <a:solidFill>
                  <a:srgbClr val="ffffff"/>
                </a:solidFill>
                <a:latin typeface="Arial"/>
              </a:rPr>
              <a:t>Җыю саны(ничәү?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4716360" y="134136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4716360" y="1916280"/>
            <a:ext cx="0" cy="21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Line 11"/>
          <p:cNvSpPr/>
          <p:nvPr/>
        </p:nvSpPr>
        <p:spPr>
          <a:xfrm>
            <a:off x="4788000" y="314172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Line 14"/>
          <p:cNvSpPr/>
          <p:nvPr/>
        </p:nvSpPr>
        <p:spPr>
          <a:xfrm>
            <a:off x="4716360" y="3933720"/>
            <a:ext cx="0" cy="3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Line 15"/>
          <p:cNvSpPr/>
          <p:nvPr/>
        </p:nvSpPr>
        <p:spPr>
          <a:xfrm>
            <a:off x="4716360" y="4941720"/>
            <a:ext cx="0" cy="3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ffffff"/>
                </a:solidFill>
                <a:latin typeface="Arial"/>
              </a:rPr>
              <a:t>Утыз көн, бер бәхет, бер ре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цепт,</a:t>
            </a:r>
            <a:r>
              <a:rPr b="0" lang="tt-RU" sz="3600" spc="-1" strike="noStrike">
                <a:solidFill>
                  <a:srgbClr val="ffffff"/>
                </a:solidFill>
                <a:latin typeface="Arial"/>
              </a:rPr>
              <a:t>бер ачы кара торма,бер аш кашыгы бал,өч- дүрт тапкыр, унбиш- егерме минут,икешәр аш кашыг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3600" spc="-1" strike="noStrike">
                <a:solidFill>
                  <a:srgbClr val="ffffff"/>
                </a:solidFill>
                <a:latin typeface="Arial"/>
              </a:rPr>
              <a:t>СӘЛАМӘТ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tt-RU" sz="3600" spc="-1" strike="noStrike">
                <a:solidFill>
                  <a:srgbClr val="ffffff"/>
                </a:solidFill>
                <a:latin typeface="Arial"/>
              </a:rPr>
              <a:t>ТӘНДӘ-              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i="1" lang="tt-RU" sz="3600" spc="-1" strike="noStrike">
                <a:solidFill>
                  <a:srgbClr val="ffffff"/>
                </a:solidFill>
                <a:latin typeface="Arial"/>
              </a:rPr>
              <a:t>СӘЛАМӘТ АКЫЛ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ffffff"/>
                </a:solidFill>
                <a:latin typeface="Arial"/>
              </a:rPr>
              <a:t>1төркем-  күнегүдән төп саннарны табып язарг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t-RU" sz="3600" spc="-1" strike="noStrike">
                <a:solidFill>
                  <a:srgbClr val="ffffff"/>
                </a:solidFill>
                <a:latin typeface="Arial"/>
              </a:rPr>
              <a:t>2төркем – сәламәт булу рецепт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ffffff"/>
                </a:solidFill>
                <a:latin typeface="Arial"/>
              </a:rPr>
              <a:t>3төркем – сәламәт кеше  нинди булырга тиеш? (рәсем, хикәя һ.б.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8T11:21:07Z</dcterms:created>
  <dc:creator>user</dc:creator>
  <dc:description/>
  <dc:language>en-US</dc:language>
  <cp:lastModifiedBy>Равил</cp:lastModifiedBy>
  <dcterms:modified xsi:type="dcterms:W3CDTF">2012-10-01T19:09:49Z</dcterms:modified>
  <cp:revision>5</cp:revision>
  <dc:subject/>
  <dc:title>Слайд 1</dc:title>
</cp:coreProperties>
</file>